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D0A-EE32-455B-85D6-1A0D0660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B3-6292-4E21-AFD5-673F419A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6D3-B43E-4B6A-A4B3-854DD91E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C46-D22B-46B9-B7E9-790C2B43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8EF-F856-4DD8-9C5A-3112441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A2F-A0A0-4FD7-A0DE-E6FFDF39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1B7-88D4-4ACB-BB08-8F25FB9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281-F3F8-4296-B9B7-472F8CA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DEC-C710-414B-8C6C-AA47FED8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B66-1A6D-49BC-803D-789FC74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6F2-77FF-4AA6-BBBE-FB5A7FC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D1F-314E-4BA2-9BAC-4FD0E64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239-6C4B-42D8-8666-C13F6B94D0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648800" y="-31320"/>
            <a:ext cx="72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CENTRAL IDEA:                                               Name: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THE LANGUAGE AND TECHNIQUES OF PERSUASION AFFECTS THE WAY WE THINK FEEL AND A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j0223784"/>
          <p:cNvPicPr/>
          <p:nvPr/>
        </p:nvPicPr>
        <p:blipFill>
          <a:blip r:embed="rId1"/>
          <a:stretch/>
        </p:blipFill>
        <p:spPr>
          <a:xfrm>
            <a:off x="214200" y="642960"/>
            <a:ext cx="895320" cy="72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143000" y="650160"/>
            <a:ext cx="3000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ITE HAT:  THE FACT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at are some forms of persuas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 flipV="1" rot="10800000">
            <a:off x="5571720" y="5724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RED HAT:  FEELINGS- How does persuasion affect the way we fe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0234737"/>
          <p:cNvPicPr/>
          <p:nvPr/>
        </p:nvPicPr>
        <p:blipFill>
          <a:blip r:embed="rId2"/>
          <a:stretch/>
        </p:blipFill>
        <p:spPr>
          <a:xfrm>
            <a:off x="4643280" y="500040"/>
            <a:ext cx="714600" cy="752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0217794"/>
          <p:cNvPicPr/>
          <p:nvPr/>
        </p:nvPicPr>
        <p:blipFill>
          <a:blip r:embed="rId3"/>
          <a:stretch/>
        </p:blipFill>
        <p:spPr>
          <a:xfrm>
            <a:off x="4643280" y="3643200"/>
            <a:ext cx="785880" cy="733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30"/>
          <p:cNvSpPr/>
          <p:nvPr/>
        </p:nvSpPr>
        <p:spPr>
          <a:xfrm flipH="1">
            <a:off x="4498560" y="642960"/>
            <a:ext cx="1800" cy="621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2"/>
          <p:cNvSpPr/>
          <p:nvPr/>
        </p:nvSpPr>
        <p:spPr>
          <a:xfrm>
            <a:off x="0" y="3429000"/>
            <a:ext cx="45007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37"/>
          <p:cNvSpPr/>
          <p:nvPr/>
        </p:nvSpPr>
        <p:spPr>
          <a:xfrm>
            <a:off x="4500720" y="3429000"/>
            <a:ext cx="464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572080" y="3644280"/>
            <a:ext cx="3286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POSITIVE ASPECTS- In what ways can persuasion be positive? ( give example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1071720" y="3643200"/>
            <a:ext cx="335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WHITE HAT:  What are some techniques that advertisers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use to persuade others to buy their produ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j0223784"/>
          <p:cNvPicPr/>
          <p:nvPr/>
        </p:nvPicPr>
        <p:blipFill>
          <a:blip r:embed="rId4"/>
          <a:stretch/>
        </p:blipFill>
        <p:spPr>
          <a:xfrm>
            <a:off x="142920" y="3643200"/>
            <a:ext cx="895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j0212619"/>
          <p:cNvPicPr/>
          <p:nvPr/>
        </p:nvPicPr>
        <p:blipFill>
          <a:blip r:embed="rId1"/>
          <a:stretch/>
        </p:blipFill>
        <p:spPr>
          <a:xfrm>
            <a:off x="0" y="3429000"/>
            <a:ext cx="853920" cy="71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928800" y="343044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GREEN HAT – Think of a creative way to convince a bully to leave your friend al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j0232733"/>
          <p:cNvPicPr/>
          <p:nvPr/>
        </p:nvPicPr>
        <p:blipFill>
          <a:blip r:embed="rId2"/>
          <a:stretch/>
        </p:blipFill>
        <p:spPr>
          <a:xfrm>
            <a:off x="5715000" y="357120"/>
            <a:ext cx="140508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714920" y="1719720"/>
            <a:ext cx="40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BLUE HAT – Your overall opin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How has learning about persuasion/advertising influenced your think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How has it affected the way you might act in the fu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8"/>
          <p:cNvSpPr/>
          <p:nvPr/>
        </p:nvSpPr>
        <p:spPr>
          <a:xfrm flipH="1">
            <a:off x="4428720" y="0"/>
            <a:ext cx="180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188515"/>
          <p:cNvPicPr/>
          <p:nvPr/>
        </p:nvPicPr>
        <p:blipFill>
          <a:blip r:embed="rId3"/>
          <a:stretch/>
        </p:blipFill>
        <p:spPr>
          <a:xfrm>
            <a:off x="142920" y="142920"/>
            <a:ext cx="857160" cy="960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1143000" y="142920"/>
            <a:ext cx="32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NEGATIVE ASPECTS- How can persuasion be negative?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( give examp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 flipH="1" flipV="1">
            <a:off x="-360" y="3357720"/>
            <a:ext cx="4429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1:41Z</dcterms:created>
  <dc:creator>cgeschei</dc:creator>
  <dc:description/>
  <dc:language>en-US</dc:language>
  <cp:lastModifiedBy>cgeschei</cp:lastModifiedBy>
  <dcterms:modified xsi:type="dcterms:W3CDTF">2008-09-18T02:26:42Z</dcterms:modified>
  <cp:revision>4</cp:revision>
  <dc:subject/>
  <dc:title>Slide 1</dc:title>
</cp:coreProperties>
</file>